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8BC-3E9C-448A-B6DB-B9B08784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6D1-1EBC-4DF1-AFC5-E3F79509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8B2-CA9A-4F52-A9D1-1A37DCC4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242-3150-40CD-858B-2955B607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8DC-9AB6-4ADE-8597-D25EFDDB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87C-57BC-47BD-B6D2-A89B37F7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1B5-DCFD-45C0-8F31-0FAB5BE5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103-A2CF-47C3-80C7-BA4FC03C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E28-24CA-47B9-8C0C-EE534338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745-6B6E-4F92-A9A8-FEBC50F5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DC7-4592-4D48-B1F5-8BA6E41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A7E-4D64-4E45-98FB-E3A836C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D10620_"/>
          <p:cNvPicPr/>
          <p:nvPr/>
        </p:nvPicPr>
        <p:blipFill>
          <a:blip r:embed="rId2"/>
          <a:stretch/>
        </p:blipFill>
        <p:spPr>
          <a:xfrm>
            <a:off x="372096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0461-487E-4736-967E-9512DC49A43E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ucleusinc.com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pre61756_2001"/>
          <p:cNvPicPr/>
          <p:nvPr/>
        </p:nvPicPr>
        <p:blipFill>
          <a:blip r:embed="rId1"/>
          <a:srcRect l="0" t="0" r="0" b="18191"/>
          <a:stretch/>
        </p:blipFill>
        <p:spPr>
          <a:xfrm>
            <a:off x="1447920" y="0"/>
            <a:ext cx="6535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Anatom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9760" y="2104560"/>
            <a:ext cx="152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bi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condylar eminen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dial and lateral condy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bial tuberosit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4" descr="tibia1"/>
          <p:cNvPicPr/>
          <p:nvPr/>
        </p:nvPicPr>
        <p:blipFill>
          <a:blip r:embed="rId1"/>
          <a:stretch/>
        </p:blipFill>
        <p:spPr>
          <a:xfrm>
            <a:off x="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152280" y="1012680"/>
            <a:ext cx="3962520" cy="528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800600" y="1036800"/>
            <a:ext cx="420048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tell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tendon- attaches to the anterior of the tibia. (tibial tuberosity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driceps tendon-attaches the quadriceps to the patella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12" descr="Provided by Nucleus Communications, Inc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760" y="1676520"/>
            <a:ext cx="420372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Joints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biofemor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st joint in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tellofemor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contains the thickest cartilage found in the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erior Tibiofibula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y movement here is due to movement at the ank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Stabiliz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l Collateral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ral Collateral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erior Cruciate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erior Cruciate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” shape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r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” shape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kneetes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ruciate Liga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jor stabilizing ligaments in the kne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erior Cruciate Ligament (ACL)-prevents the tibia from sliding out in front of the fem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juries caused by hyperflexion, internal rotation, hyper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8" descr="fig11"/>
          <p:cNvPicPr/>
          <p:nvPr/>
        </p:nvPicPr>
        <p:blipFill>
          <a:blip r:embed="rId1"/>
          <a:stretch/>
        </p:blipFill>
        <p:spPr>
          <a:xfrm>
            <a:off x="228600" y="160020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neetes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L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s Two Bund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teromedi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ght in flexion and 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erolater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ght in 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gament is most lax between 30 – 60 degrees flex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Joi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most poorly constructed joint in the body.  Femur round, tibia flat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ised of four bones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b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b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5" descr="OrangeRndDiningTbl3QF4_lg"/>
          <p:cNvPicPr/>
          <p:nvPr/>
        </p:nvPicPr>
        <p:blipFill>
          <a:blip r:embed="rId1"/>
          <a:stretch/>
        </p:blipFill>
        <p:spPr>
          <a:xfrm>
            <a:off x="5867280" y="4800600"/>
            <a:ext cx="2762280" cy="140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Orange"/>
          <p:cNvPicPr/>
          <p:nvPr/>
        </p:nvPicPr>
        <p:blipFill>
          <a:blip r:embed="rId2"/>
          <a:stretch/>
        </p:blipFill>
        <p:spPr>
          <a:xfrm>
            <a:off x="6324480" y="3276720"/>
            <a:ext cx="1981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sterior Cruciate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s posterior translation of the tibia on the 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ists hyperextension of kn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uns from posterior tibia to anterior 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posterior-cruciate-ligament-pcl"/>
          <p:cNvPicPr/>
          <p:nvPr/>
        </p:nvPicPr>
        <p:blipFill>
          <a:blip r:embed="rId1"/>
          <a:stretch/>
        </p:blipFill>
        <p:spPr>
          <a:xfrm>
            <a:off x="48006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CL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bers are tightest around 30 degrees flex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erolateral fibers are the last to become tigh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wo times stronger than AC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Collateral Ligament (MCL)- connect the tibia and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force from the lateral side could cause a tea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gus fo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15" descr="acl"/>
          <p:cNvPicPr/>
          <p:nvPr/>
        </p:nvPicPr>
        <p:blipFill>
          <a:blip r:embed="rId1"/>
          <a:stretch/>
        </p:blipFill>
        <p:spPr>
          <a:xfrm>
            <a:off x="320760" y="1752480"/>
            <a:ext cx="4174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dial 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wo lay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ep layer is actually a thickening of the joint capsule that blends into the medi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ficial layer is what we view as the MC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medial-collateral-ligament-mcl"/>
          <p:cNvPicPr/>
          <p:nvPr/>
        </p:nvPicPr>
        <p:blipFill>
          <a:blip r:embed="rId1"/>
          <a:stretch/>
        </p:blipFill>
        <p:spPr>
          <a:xfrm>
            <a:off x="5315040" y="19051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teral Collateral Ligament (LCL)-  connect the fibula to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force from the medial side can cause a tear of the LC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rus fo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8" descr="acl_10"/>
          <p:cNvPicPr/>
          <p:nvPr/>
        </p:nvPicPr>
        <p:blipFill>
          <a:blip r:embed="rId1"/>
          <a:stretch/>
        </p:blipFill>
        <p:spPr>
          <a:xfrm>
            <a:off x="0" y="1981080"/>
            <a:ext cx="44197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teral 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aches to head of fib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s excessive varus and IR fo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ghtest in extension, loosest after 30 degrees flex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lateral-collateral-ligament-lcl"/>
          <p:cNvPicPr/>
          <p:nvPr/>
        </p:nvPicPr>
        <p:blipFill>
          <a:blip r:embed="rId1"/>
          <a:stretch/>
        </p:blipFill>
        <p:spPr>
          <a:xfrm>
            <a:off x="5257800" y="1676520"/>
            <a:ext cx="3486240" cy="46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rtilage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ticulate Cartilage-covers the moving parts of the kne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ronic damage to articulate cartilage leads to arthriti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9" descr="menisucs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topview kneet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rtilag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niscus- half moon shaped cartilage lying between the knee join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7" descr="injuries-lower-knee-meniscus"/>
          <p:cNvPicPr/>
          <p:nvPr/>
        </p:nvPicPr>
        <p:blipFill>
          <a:blip r:embed="rId1"/>
          <a:stretch/>
        </p:blipFill>
        <p:spPr>
          <a:xfrm>
            <a:off x="228600" y="1752480"/>
            <a:ext cx="434340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TICULAR DIS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Menisc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teral Menisc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Birds_Eye"/>
          <p:cNvPicPr/>
          <p:nvPr/>
        </p:nvPicPr>
        <p:blipFill>
          <a:blip r:embed="rId1"/>
          <a:stretch/>
        </p:blipFill>
        <p:spPr>
          <a:xfrm>
            <a:off x="304920" y="3352680"/>
            <a:ext cx="3809880" cy="31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Condyles- distal ends of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st bone in the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7" descr="knee_front_bones"/>
          <p:cNvPicPr/>
          <p:nvPr/>
        </p:nvPicPr>
        <p:blipFill>
          <a:blip r:embed="rId1"/>
          <a:stretch/>
        </p:blipFill>
        <p:spPr>
          <a:xfrm>
            <a:off x="304920" y="1447920"/>
            <a:ext cx="41907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niscal Blood Suppl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ch Meniscus has 3 zon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er 1/3:  good blood supp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/White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dle 1/3:  minimal blood supp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1/3:   avascular (no blood supp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lications for injury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niscal Blood Suppl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3" descr="pre61756_2003"/>
          <p:cNvPicPr/>
          <p:nvPr/>
        </p:nvPicPr>
        <p:blipFill>
          <a:blip r:embed="rId1"/>
          <a:srcRect l="0" t="0" r="0" b="55558"/>
          <a:stretch/>
        </p:blipFill>
        <p:spPr>
          <a:xfrm>
            <a:off x="914400" y="2421000"/>
            <a:ext cx="74674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KNee Joint with Primary Ligments"/>
          <p:cNvPicPr/>
          <p:nvPr/>
        </p:nvPicPr>
        <p:blipFill>
          <a:blip r:embed="rId1"/>
          <a:stretch/>
        </p:blipFill>
        <p:spPr>
          <a:xfrm>
            <a:off x="0" y="0"/>
            <a:ext cx="891540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good knee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4" descr="femur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91320" y="6091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. Tuberc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epicondy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condy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ondylar foss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fossa (not shown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4" descr="fer"/>
          <p:cNvPicPr/>
          <p:nvPr/>
        </p:nvPicPr>
        <p:blipFill>
          <a:blip r:embed="rId1"/>
          <a:stretch/>
        </p:blipFill>
        <p:spPr>
          <a:xfrm>
            <a:off x="0" y="0"/>
            <a:ext cx="3032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bia and Fibul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4" descr="fib tib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ibfib knee te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4" descr="detailed tib fib"/>
          <p:cNvPicPr/>
          <p:nvPr/>
        </p:nvPicPr>
        <p:blipFill>
          <a:blip r:embed="rId1"/>
          <a:stretch/>
        </p:blipFill>
        <p:spPr>
          <a:xfrm>
            <a:off x="0" y="0"/>
            <a:ext cx="792468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ibula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ex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ck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teral Maelleolu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4" descr="fibula"/>
          <p:cNvPicPr/>
          <p:nvPr/>
        </p:nvPicPr>
        <p:blipFill>
          <a:blip r:embed="rId1"/>
          <a:stretch/>
        </p:blipFill>
        <p:spPr>
          <a:xfrm>
            <a:off x="0" y="0"/>
            <a:ext cx="3052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3:52:20Z</dcterms:created>
  <dc:creator>lindseyboutilier</dc:creator>
  <dc:description/>
  <dc:language>en-US</dc:language>
  <cp:lastModifiedBy>Andrew S. Hansell</cp:lastModifiedBy>
  <dcterms:modified xsi:type="dcterms:W3CDTF">2014-02-17T15:16:28Z</dcterms:modified>
  <cp:revision>40</cp:revision>
  <dc:subject/>
  <dc:title>Knee Anatomy</dc:title>
</cp:coreProperties>
</file>